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B80-54B3-4A87-9EF8-6E45E129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16A-49AE-447B-8EC6-292A6E9D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8F6-4306-4C71-A271-517704A8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A3A-0A2B-4772-957F-B0DA2C95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69B-00BE-44EB-A70E-CF21A9A9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2E1-47F4-4B60-A7B7-0919F71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3B5-8D36-4967-B14C-B8C23627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6D4-E210-4A57-A672-3306603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5FA-A33A-4C7E-9FFE-888113C5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CB5-42AA-4BD2-9754-439E2C0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6C3-9CE5-496E-B1C7-B559626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5A4-D4EA-4959-8B24-22014C3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655E-696D-463E-9CCB-4D6F3A7CF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0287000" cy="77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3:24:40Z</dcterms:created>
  <dc:creator>Lektor</dc:creator>
  <dc:description/>
  <dc:language>en-US</dc:language>
  <cp:lastModifiedBy>Lektor</cp:lastModifiedBy>
  <dcterms:modified xsi:type="dcterms:W3CDTF">2003-04-28T13:32:10Z</dcterms:modified>
  <cp:revision>3</cp:revision>
  <dc:subject/>
  <dc:title>Prezentace aplikace PowerPoint</dc:title>
</cp:coreProperties>
</file>