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A6B-0976-472F-A83C-1AEEE65D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C1C-8B68-4EE1-9CC6-6471278D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927-131D-4926-A0DA-10B5741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774-0CA6-477C-B161-4428B576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5DE-18E9-412E-B47B-0EDF9F3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6D4-0C90-4211-AC60-AF72AE1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AA8-4CD7-4D9C-9F80-94E2CA6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828-C61D-48D3-85C5-78F3FD3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244-D1ED-4440-85CD-AEA2F2C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2FC-E6DB-4E56-AB1F-CD8DA22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7D-44C2-4157-8696-D154586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A59-514B-4922-ACE7-674895AC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571-445B-475C-AAE6-9F76E979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OZPOZNÁVÁNÍ  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ŘEDMĚ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Lineární diskriminační funk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-tá váha diskriminační funk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= 1,...,R, k = 1,...,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i,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áh funk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2590920"/>
                <a:ext cx="491040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2120" y="14479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stavuje oddělující nadplochu mezi jednotlivými třídami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48520" y="4419720"/>
                <a:ext cx="9144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57600" y="5562720"/>
                <a:ext cx="9144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Diskriminační funkce se vzorovými obrazy  (etalony třídy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172200" y="1066680"/>
                <a:ext cx="48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14400" y="2438280"/>
                <a:ext cx="38862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66680" y="4724280"/>
                <a:ext cx="58676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09480" y="3733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raz        patří do tříd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když pla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76520" y="3809880"/>
                <a:ext cx="442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Příslušnost obrazu do tří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raz patří do příslušné třídy i, když pla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19320" y="2209680"/>
                <a:ext cx="23619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191120" y="289548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 1, … , R ,  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vnice rozdělující nadploch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724280"/>
                <a:ext cx="3809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ředstavuje oddělující nadplochu mezi jednotlivými třídami obraz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Po částech lineárně separabilní množiny obraz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752480"/>
          <a:ext cx="60199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0199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Neseparabilní množiny obraz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09680" y="1143000"/>
          <a:ext cx="457200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572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57200" y="4495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ožiny od sebe nelze jednoznačně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ddělit, vždy je třeba počítat s chybným zařazením v překrývající se obl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88840" y="5638680"/>
                <a:ext cx="4853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lokové  schéma příznakového klasifikáto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UKTURÁLNÍ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Rozpoznávání  strukturálními metod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2895480"/>
          <a:ext cx="84582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5480"/>
                    <a:ext cx="84582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ukturální  systé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. fáze generujíc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 výsledného popisu (a kvantitativních parametrů) na nižší úrovni nebo z výsledku předzpracování informace se vytváří popis na dané úrov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. fáze syntaktické analýzy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event.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yntaktické korek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is vytvořený v 1. fázi je kontrolován, event. korigován z hlediska přípustné syntax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. fáze sémantické analý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ěření z hlediska významového a fyzikální realizovatelnosti + doplnění o kvantitativní parametry popi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trukturální  met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95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33720" y="1828800"/>
          <a:ext cx="586728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586728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áze  rozpozn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714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vytvoření formálního popisu (obraz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 základě naměřených 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vlastní klasifik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zařazení obrazu do dané tří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7440" y="304920"/>
          <a:ext cx="440064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304920"/>
                    <a:ext cx="440064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Freemanův  k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5181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 = 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… ,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řetěz numerických hod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1219320"/>
          <a:ext cx="39070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39070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Linqvistické  met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ECED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ečná množina symbolů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LO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ečná posloupno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vků abeced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jsou slova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je také slov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dpovídá předmě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slov nad abecedou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ZY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některých slov nad abecedou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neterminálních symbolů (lze je přepis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terminálních symbolů - mají charakter konstant (nelze je přepis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ATIK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, T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dpovídá třídě obraz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nožina přepisovacích pravidel, 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lokové  schéma  syntaktického  klasifikáto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ůběh  rozpoznávání  předmě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514600"/>
          <a:ext cx="807732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0773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ělení  metod  klasif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říznakov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is tvaru a rozměru předmětu množinou příznak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řízna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vlastnost předmětu kvantitativně vyjádřená číslem (např. délka, výška, hmotnost, úhel apo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od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intenzita této vlast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ukturální (syntaktické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jádření popisu předmět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mitiv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ále nedělitelné elementy, např. barva, textura, tvar apod.) a vzájemnými závislostmi mezi nimi. Závislosti jsou popsány relacemi nebo linqvistickými metod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brid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í vlastnosti obou met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ozpoznávání  příznakovými  metoda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638440"/>
          <a:ext cx="769608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38440"/>
                    <a:ext cx="769608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447920"/>
          <a:ext cx="72612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2612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360" y="304776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     E</a:t>
            </a:r>
            <a:r>
              <a:rPr b="0" lang="de-DE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19320" y="2895480"/>
                <a:ext cx="3644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2120" y="2057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br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bra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ředstavován příznakovým vektorem          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, … , 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hodnoty přízna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809880"/>
                <a:ext cx="71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Rozhodovací pravid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09480" y="1752480"/>
                <a:ext cx="25146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72200" y="609480"/>
                <a:ext cx="1066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9480" y="2895480"/>
                <a:ext cx="464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3520" y="3962520"/>
                <a:ext cx="3352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943600" y="1828800"/>
            <a:ext cx="2514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= 1,2,...,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= 1,2,...,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ída 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množina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480" y="5105520"/>
                <a:ext cx="64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13:47:15Z</dcterms:created>
  <dc:creator>Jaromír Volf</dc:creator>
  <dc:description/>
  <dc:language>en-US</dc:language>
  <cp:lastModifiedBy>Jaromír Volf</cp:lastModifiedBy>
  <dcterms:modified xsi:type="dcterms:W3CDTF">2006-01-18T07:56:44Z</dcterms:modified>
  <cp:revision>32</cp:revision>
  <dc:subject/>
  <dc:title>ROZPOZNÁVÁNÍ     PŘEDMĚTŮ</dc:title>
</cp:coreProperties>
</file>