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E65-B6D5-4311-B636-08B3C18D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B50-E801-4A32-B8D6-3DB876B3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ABC-9B7F-4447-B945-14738915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67A-37C3-43D4-8084-B3E3A502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C42-1B80-4091-9908-FFCE6D93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78A-D36D-43DE-8EC7-2DE85064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A73-5A23-4EFD-BFCE-96FEAF54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F26-46D5-4076-8759-57DA5999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D45-DD58-44CC-BB62-11B790A1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8AB-0A6F-4D87-9C96-CFF93D84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5E3-29C9-4FC5-9B97-D72F3876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A67-4C42-4BE4-844F-07000197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F80A-A89B-4793-8DB7-D9970FD74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OZPOZNÁVÁNÍ  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ŘEDMĚ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Lineární diskriminační funk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441936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i,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-tá váha diskriminační funk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= 1,...,R, k = 1,...,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i,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áh funk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81080" y="2590920"/>
                <a:ext cx="491040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62120" y="14479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stavuje oddělující nadplochu mezi jednotlivými třídami obraz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248520" y="4419720"/>
                <a:ext cx="9144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57600" y="5562720"/>
                <a:ext cx="9144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Diskriminační funkce se vzorovými obrazy  (etalony třídy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172200" y="1066680"/>
                <a:ext cx="48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914400" y="2438280"/>
                <a:ext cx="388620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066680" y="4724280"/>
                <a:ext cx="58676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R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609480" y="37339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raz        patří do tříd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, když plat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676520" y="3809880"/>
                <a:ext cx="442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Příslušnost obrazu do tří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raz patří do příslušné třídy i, když plat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19320" y="2209680"/>
                <a:ext cx="236196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191120" y="289548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=  1, … , R ,  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4038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vnice rozdělující nadploch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19320" y="4724280"/>
                <a:ext cx="3809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762120" y="5638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ředstavuje oddělující nadplochu mezi jednotlivými třídami obraz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Po částech lineárně separabilní množiny obraz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1752480"/>
          <a:ext cx="601992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601992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Neseparabilní množiny obraz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09680" y="1143000"/>
          <a:ext cx="4572000" cy="34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143000"/>
                    <a:ext cx="4572000" cy="34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57200" y="44956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nožiny od sebe nelze jednoznačně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ddělit, vždy je třeba počítat s chybným zařazením v překrývající se obla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888840" y="5638680"/>
                <a:ext cx="4853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Blokové  schéma příznakového klasifikáto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0866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UKTURÁLNÍ  MET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Rozpoznávání  strukturálními metoda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8600" y="2895480"/>
          <a:ext cx="845820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95480"/>
                    <a:ext cx="845820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ukturální  systé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66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. fáze generujíc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 výsledného popisu (a kvantitativních parametrů) na nižší úrovni nebo z výsledku předzpracování informace se vytváří popis na dané úrov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. fáze syntaktické analýzy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(event.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yntaktické korekce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is vytvořený v 1. fázi je kontrolován, event. korigován z hlediska přípustné syntax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. fáze sémantické analý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ěření z hlediska významového a fyzikální realizovatelnosti + doplnění o kvantitativní parametry popis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Strukturální  met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295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říkl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133720" y="1828800"/>
          <a:ext cx="586728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828800"/>
                    <a:ext cx="586728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áze  rozpozn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714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vytvoření formálního popisu (obrazu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 základě naměřených d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vlastní klasifik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zařazení obrazu do dané tří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7440" y="304920"/>
          <a:ext cx="440064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7440" y="304920"/>
                    <a:ext cx="440064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33"/>
                </a:solidFill>
                <a:latin typeface="Times New Roman"/>
              </a:rPr>
              <a:t>Freemanův  kó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51811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 =  a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a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… , a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řetěz numerických hod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81080" y="1219320"/>
          <a:ext cx="390708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390708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Linqvistické  met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BECEDA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nečná množina symbolů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LOV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nečná posloupno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vků abeced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jsou slova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je také slovo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(odpovídá předmět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*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nožina všech slov nad abecedou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AZY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nožina některých slov nad abecedou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nožina všech neterminálních symbolů (lze je přepisov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nožina všech terminálních symbolů - mají charakter konstant (nelze je přepisov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ATIK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P, T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(odpovídá třídě obrazů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nožina přepisovacích pravidel, 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Blokové  schéma  syntaktického  klasifikáto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ůběh  rozpoznávání  předmě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514600"/>
          <a:ext cx="807732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14600"/>
                    <a:ext cx="807732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Dělení  metod  klasif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2381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říznakov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is tvaru a rozměru předmětu množinou příznaků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81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řízna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vlastnost předmětu kvantitativně vyjádřená číslem (např. délka, výška, hmotnost, úhel apo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81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odno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intenzita této vlast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814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trukturální (syntaktické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yjádření popisu předmět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imitiv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ále nedělitelné elementy, např. barva, textura, tvar apod.) a vzájemnými závislostmi mezi nimi. Závislosti jsou popsány relacemi nebo linqvistickými metod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81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Hybridn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í vlastnosti obou met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ŘÍZNAKOVÉ  MET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Rozpoznávání  příznakovými  metoda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2638440"/>
          <a:ext cx="7696080" cy="22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38440"/>
                    <a:ext cx="769608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říznakové  met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43000" y="1447920"/>
          <a:ext cx="7261200" cy="50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7261200" cy="50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říznakové  met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360" y="3047760"/>
            <a:ext cx="1523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     E</a:t>
            </a:r>
            <a:r>
              <a:rPr b="0" lang="de-DE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219320" y="2895480"/>
                <a:ext cx="36446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62120" y="205740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bra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038480"/>
            <a:ext cx="84582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braz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ředstavován příznakovým vektorem          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, … , 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 baseline="-25000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sou hodnoty příznak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809880"/>
                <a:ext cx="718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Rozhodovací pravid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09480" y="1752480"/>
                <a:ext cx="25146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72200" y="609480"/>
                <a:ext cx="1066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9480" y="2895480"/>
                <a:ext cx="46483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33520" y="3962520"/>
                <a:ext cx="33526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5943600" y="1828800"/>
            <a:ext cx="2514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= 1,2,...,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= 1,2,...,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257800"/>
            <a:ext cx="7696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řída  obraz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množina obraz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09480" y="5105520"/>
                <a:ext cx="646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7T13:47:15Z</dcterms:created>
  <dc:creator>Jaromír Volf</dc:creator>
  <dc:description/>
  <dc:language>en-US</dc:language>
  <cp:lastModifiedBy>Jaromír Volf</cp:lastModifiedBy>
  <dcterms:modified xsi:type="dcterms:W3CDTF">2006-01-18T07:56:44Z</dcterms:modified>
  <cp:revision>32</cp:revision>
  <dc:subject/>
  <dc:title>ROZPOZNÁVÁNÍ     PŘEDMĚTŮ</dc:title>
</cp:coreProperties>
</file>