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4FD-465B-401D-AB23-C637E9B1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F76-9DF1-4019-8C3E-BCA65BBF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32BA-F328-484E-908C-A75685F3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14B-3696-4963-BD04-9501C2FE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904A-0C8B-45B3-997B-47EFC154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95C-7ED8-440C-A1B9-20825804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CE1-4C2D-47C1-B2CE-6629367A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F08-C9D9-427C-9F0E-7E67420A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B9F0-96AE-4670-8494-28EEDFF4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A71F-815D-401B-A243-7DB0295F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56A4-9E9D-4CD4-A867-DFFDF0C0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983-CC25-4D45-B84F-7AE549E4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23A5-D15D-4607-ADE7-F2DB1A761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10287000" cy="77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3:24:40Z</dcterms:created>
  <dc:creator>Lektor</dc:creator>
  <dc:description/>
  <dc:language>en-US</dc:language>
  <cp:lastModifiedBy>Lektor</cp:lastModifiedBy>
  <dcterms:modified xsi:type="dcterms:W3CDTF">2003-04-28T13:32:10Z</dcterms:modified>
  <cp:revision>3</cp:revision>
  <dc:subject/>
  <dc:title>Prezentace aplikace PowerPoint</dc:title>
</cp:coreProperties>
</file>